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4F59-4C9C-400C-BAEF-36FC23D0EE31}" type="slidenum">
              <a:rPr b="0" lang="pt-B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CAAE-6BCB-4897-9D7B-2F64407A814D}" type="slidenum">
              <a:rPr b="0" lang="pt-BR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F198-9842-4ACA-B145-222D2E1C7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1846-E6A9-483A-A3E5-CC2162A18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9B5B-D92D-4ED0-A437-101C68BE7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5430-FED6-4809-A3C3-88EEB86A68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C48A-7100-4E53-95F6-36A8AF7B64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5563-20B0-4B83-9201-A23E49FA9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7D24B-4C3A-4A3A-AA87-F0EAF6B34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623E-12AE-4986-BE13-F2618DAE1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365040"/>
            <a:ext cx="72565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997A-3B4E-4B1C-BB4F-61F96D5C3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6845-F7E7-436A-9EF0-569B42C38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545E6-1EE8-4A57-8C99-662F3AE9F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DF69-D199-4B81-9406-E88FD3285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Prof. Me. Ricardo César de Carvalh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3410-A56C-456B-B951-05247ADC25E4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em 8" descr=""/>
          <p:cNvPicPr/>
          <p:nvPr/>
        </p:nvPicPr>
        <p:blipFill>
          <a:blip r:embed="rId2"/>
          <a:srcRect l="13631" t="6363" r="13631" b="3339"/>
          <a:stretch/>
        </p:blipFill>
        <p:spPr>
          <a:xfrm>
            <a:off x="52560" y="101520"/>
            <a:ext cx="1152360" cy="165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7361280" cy="10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5400" spc="-1" strike="noStrike">
                <a:solidFill>
                  <a:srgbClr val="ff0000"/>
                </a:solidFill>
                <a:latin typeface="Calibri Light"/>
              </a:rPr>
              <a:t>Colocar o Tema Aqui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720" y="5084640"/>
            <a:ext cx="44085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uno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luno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aixaDeTexto 3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D146-0471-4D2A-A401-F9BB12F1A352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61EC-1739-4B9F-91E5-6C7DB4BFE3BB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AC58-0F3D-45B8-B563-667CAF6F5ECC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FCE-B09C-48B6-8525-DFAC18172078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2BB5-6358-4BED-8344-1159C69600DD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A3EE-17B3-43AA-9091-F68D7C51EB91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DF41-4C47-4F25-AE55-E420CE1351BA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9BA9-BC4E-43F1-93C9-BE137D23949B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186-F7DA-4512-B662-175B484EFC1E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FBBE-F167-4E2D-AAFE-9DE9A1430DEE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1314-6332-4933-B710-5BEEB9F6622F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Calibri Light"/>
              </a:rPr>
              <a:t>Conclusão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88FF-142A-4E6B-A9A4-29077C91DCA2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F015-E08E-4ED4-ABB5-481CEA2C10DE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511B-BFB4-4723-90F0-917FB0E4515D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B049-D338-4192-A838-CCA9FFB5D6A2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D198-2480-4FC3-A9E0-1CCD4D58AA93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E9B1-B200-4F73-BF71-DEAC8E77C8FA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610D-5130-4103-B36C-1A6B9332AE4D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365040"/>
            <a:ext cx="7256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pt-BR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ço Reservado para Número de Slide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656B-E3DA-4C45-A97A-17D718102FC1}" type="slidenum">
              <a:rPr b="0" lang="pt-BR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ixaDeTexto 4"/>
          <p:cNvSpPr/>
          <p:nvPr/>
        </p:nvSpPr>
        <p:spPr>
          <a:xfrm>
            <a:off x="108000" y="6381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0T18:57:07Z</dcterms:created>
  <dc:creator>Ricardo</dc:creator>
  <dc:description/>
  <dc:language>en-US</dc:language>
  <cp:lastModifiedBy>Ricardo César de Carvalho</cp:lastModifiedBy>
  <dcterms:modified xsi:type="dcterms:W3CDTF">2023-03-13T11:49:12Z</dcterms:modified>
  <cp:revision>126</cp:revision>
  <dc:subject/>
  <dc:title>Colocar o Tema Aqui</dc:title>
</cp:coreProperties>
</file>